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1E7A-BA54-4DF8-AE00-EA8CA17C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BC9-92E5-445A-AAB7-1F719D43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9DA-75BC-42D9-B6F4-5D9E57DF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A67-ACD0-4C27-BF99-9F031C4D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3248-2FDE-4167-83A1-686ADB00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4A6A-2D6B-43E9-9756-9FD14070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07A8-B256-47AB-9385-88F58409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D6EF-122D-4A44-AC7F-FE5BD905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6691-9BB0-4DA0-872B-476C5665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5D7F-1485-471E-88B2-518F9D7D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9C24-3684-43F4-AC0B-35FC2909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0551-7D01-46DF-A111-3A46D249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87C2-561D-448E-9ED2-CAE9DA8C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A50A-0713-4389-BEE1-FE9030AC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8DD3-EBA3-4165-BB39-68DB5AF7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E9B2-EB0E-433A-A293-4EDC75F1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7EBD-1CBD-4195-9128-41795C02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D8C61-576A-449E-8D49-D8529B96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275F9-B1FF-4F17-BB01-FC1BC142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43002-DFA5-4AAB-BE6C-629092A4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83BE2-8406-46DD-AD97-D83826C8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AED02-9D03-4634-B6DA-4EB82B09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0E3-A473-436E-9555-80A4A87D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66B87-D9ED-418B-82AF-9451594E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875E5-D493-4406-89EA-4F0BB9AB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FAF47-3146-46CD-BE60-E2132E6F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3F13B-F9FA-446B-B8EB-53C64B1B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7CB69-49E8-4CDA-939C-2912AFEC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101C8-1AF1-4A38-B266-0B785EDD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D3A7E-02E5-4061-BD81-8E1542D1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D2574-459E-416E-9F32-63C000B8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265EA-AA68-4F2C-B3C8-6EFCB8B0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570CD-AA2C-404A-98E3-6EB49939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DE0-9F72-4802-8C10-521519D2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E6DEC-3E3B-4FA6-A0A6-BA6E7EE4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9A1D7-605D-4A4D-90BE-EC8982CC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51BE1-4904-4F7A-8FC5-2E2D7A9E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B04AD-AF96-429D-BF21-CAFEAA84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EEC37-B021-4EA1-9B1A-DC2DEC33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0969F-8DC5-4994-93E9-2DC7D001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4748D-FA8B-4A16-9F6C-729D6795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DEA46-6943-493E-9DCB-EC967DDF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391F9-C80F-41D6-ADB8-03DDDE6C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C874-E628-4E76-BDE1-6E5848A3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216-C8EF-4777-B250-B70433E3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7F7A-766F-453B-8F10-6B3D5AA5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236-37D5-47D4-B05D-97004296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E769-5958-44E8-AD47-46630129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" name="Object 3"/>
          <p:cNvGraphicFramePr/>
          <p:nvPr/>
        </p:nvGraphicFramePr>
        <p:xfrm>
          <a:off x="0" y="0"/>
          <a:ext cx="3848040" cy="379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84804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Line 4"/>
          <p:cNvSpPr/>
          <p:nvPr/>
        </p:nvSpPr>
        <p:spPr>
          <a:xfrm>
            <a:off x="304920" y="6508800"/>
            <a:ext cx="86104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" name="Group 7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7" name="Rectangle 8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5b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DFBD-8D80-4523-BFDB-F079677CBB4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сайт_компании.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470D-D12E-4876-8BB3-D91EA1EEC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 flipH="1">
            <a:off x="2626560" y="4581360"/>
            <a:ext cx="647640" cy="432000"/>
          </a:xfrm>
          <a:custGeom>
            <a:avLst/>
            <a:gdLst>
              <a:gd name="textAreaLeft" fmla="*/ -360 w 647640"/>
              <a:gd name="textAreaRight" fmla="*/ 647640 w 647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 flipH="1">
            <a:off x="2842560" y="4581360"/>
            <a:ext cx="647640" cy="432000"/>
          </a:xfrm>
          <a:custGeom>
            <a:avLst/>
            <a:gdLst>
              <a:gd name="textAreaLeft" fmla="*/ -360 w 647640"/>
              <a:gd name="textAreaRight" fmla="*/ 647640 w 647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3132720" y="4581360"/>
            <a:ext cx="6011280" cy="432000"/>
            <a:chOff x="3132720" y="4581360"/>
            <a:chExt cx="6011280" cy="432000"/>
          </a:xfrm>
        </p:grpSpPr>
        <p:sp>
          <p:nvSpPr>
            <p:cNvPr id="94" name="Rectangle 5"/>
            <p:cNvSpPr/>
            <p:nvPr/>
          </p:nvSpPr>
          <p:spPr>
            <a:xfrm flipH="1">
              <a:off x="3476880" y="4582800"/>
              <a:ext cx="5666760" cy="43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" name="AutoShape 6"/>
            <p:cNvSpPr/>
            <p:nvPr/>
          </p:nvSpPr>
          <p:spPr>
            <a:xfrm flipH="1">
              <a:off x="3132720" y="4581360"/>
              <a:ext cx="573840" cy="432000"/>
            </a:xfrm>
            <a:custGeom>
              <a:avLst/>
              <a:gdLst>
                <a:gd name="textAreaLeft" fmla="*/ 360 w 573840"/>
                <a:gd name="textAreaRight" fmla="*/ 574560 w 5738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6" name="Text Box 12"/>
          <p:cNvSpPr/>
          <p:nvPr/>
        </p:nvSpPr>
        <p:spPr>
          <a:xfrm>
            <a:off x="1522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5b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efef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efe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32412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efef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95B5-A421-4EE5-BABB-AD58D404368A}" type="slidenum">
              <a:rPr b="0" lang="ru-RU" sz="1400" spc="-1" strike="noStrike">
                <a:solidFill>
                  <a:srgbClr val="fefef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CFC1-E6FB-4D28-B21F-CD8A8825C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5d4bc7"/>
                </a:solidFill>
                <a:latin typeface="Verdana"/>
              </a:rPr>
              <a:t>Школа  педагогического мастерства</a:t>
            </a:r>
            <a:endParaRPr b="1" lang="en-US" sz="5000" spc="-1" strike="noStrike">
              <a:solidFill>
                <a:srgbClr val="5d4bc7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5d4bc7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d4bc7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d4bc7"/>
                </a:solidFill>
                <a:latin typeface="Verdana"/>
              </a:rPr>
              <a:t>МКОУ Алтайская СОШ</a:t>
            </a:r>
            <a:endParaRPr b="1" lang="en-US" sz="2000" spc="-1" strike="noStrike">
              <a:solidFill>
                <a:srgbClr val="5d4bc7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d4bc7"/>
                </a:solidFill>
                <a:latin typeface="Verdana"/>
              </a:rPr>
              <a:t>МКОУ Шугурская СОШ</a:t>
            </a:r>
            <a:endParaRPr b="1" lang="en-US" sz="2000" spc="-1" strike="noStrike">
              <a:solidFill>
                <a:srgbClr val="5d4bc7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d4bc7"/>
                </a:solidFill>
                <a:uFillTx/>
                <a:latin typeface="Verdana"/>
              </a:rPr>
              <a:t> </a:t>
            </a:r>
            <a:endParaRPr b="1" lang="en-US" sz="2000" spc="-1" strike="noStrike">
              <a:solidFill>
                <a:srgbClr val="5d4bc7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d4bc7"/>
                </a:solidFill>
                <a:uFillTx/>
                <a:latin typeface="Verdana"/>
              </a:rPr>
              <a:t>20.10.2022</a:t>
            </a:r>
            <a:endParaRPr b="1" lang="en-US" sz="2000" spc="-1" strike="noStrike">
              <a:solidFill>
                <a:srgbClr val="5d4bc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99640" y="109440"/>
            <a:ext cx="727236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«ЧАЙНАЯ ЦЕРЕМОНИЯ»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pic>
        <p:nvPicPr>
          <p:cNvPr id="183" name="Picture 4" descr="&amp;Pcy;&amp;rcy;&amp;icy;&amp;tcy;&amp;chcy;&amp;acy;: &amp;CHcy;&amp;acy;&amp;jcy;&amp;ncy;&amp;acy;&amp;yacy; &amp;tscy;&amp;iecy;&amp;rcy;&amp;iecy;&amp;mcy;&amp;ocy;&amp;ncy;&amp;icy;&amp;yacy; &amp;icy; &amp;ucy;&amp;chcy;&amp;iecy;&amp;ncy;&amp;icy;&amp;kcy;&amp;icy;"/>
          <p:cNvPicPr/>
          <p:nvPr/>
        </p:nvPicPr>
        <p:blipFill>
          <a:blip r:embed="rId1"/>
          <a:stretch/>
        </p:blipFill>
        <p:spPr>
          <a:xfrm>
            <a:off x="1692360" y="981000"/>
            <a:ext cx="69832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351640" cy="5761080"/>
          </a:xfrm>
          <a:prstGeom prst="rect">
            <a:avLst/>
          </a:prstGeom>
          <a:noFill/>
          <a:ln w="9360">
            <a:solidFill>
              <a:srgbClr val="cbb61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93300"/>
                </a:solidFill>
                <a:latin typeface="Verdana"/>
              </a:rPr>
              <a:t>Развитие функциональной грамотности </a:t>
            </a:r>
            <a:br>
              <a:rPr sz="2400"/>
            </a:br>
            <a:r>
              <a:rPr b="1" lang="ru-RU" sz="2400" spc="-1" strike="noStrike">
                <a:solidFill>
                  <a:srgbClr val="993300"/>
                </a:solidFill>
                <a:latin typeface="Verdana"/>
              </a:rPr>
              <a:t>как средство </a:t>
            </a:r>
            <a:br>
              <a:rPr sz="2400"/>
            </a:br>
            <a:r>
              <a:rPr b="1" lang="ru-RU" sz="2400" spc="-1" strike="noStrike">
                <a:solidFill>
                  <a:srgbClr val="993300"/>
                </a:solidFill>
                <a:latin typeface="Verdana"/>
              </a:rPr>
              <a:t>овладения обучающимися </a:t>
            </a:r>
            <a:br>
              <a:rPr sz="2400"/>
            </a:br>
            <a:r>
              <a:rPr b="1" lang="ru-RU" sz="2400" spc="-1" strike="noStrike">
                <a:solidFill>
                  <a:srgbClr val="993300"/>
                </a:solidFill>
                <a:latin typeface="Verdana"/>
              </a:rPr>
              <a:t>системой ключевых компетенций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-202320"/>
            <a:ext cx="698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pic>
        <p:nvPicPr>
          <p:cNvPr id="187" name="Picture 4" descr="img19"/>
          <p:cNvPicPr/>
          <p:nvPr/>
        </p:nvPicPr>
        <p:blipFill>
          <a:blip r:embed="rId1"/>
          <a:stretch/>
        </p:blipFill>
        <p:spPr>
          <a:xfrm>
            <a:off x="1763640" y="981000"/>
            <a:ext cx="698508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3T10:09:49Z</dcterms:created>
  <dc:creator>WORK</dc:creator>
  <dc:description/>
  <dc:language>en-US</dc:language>
  <cp:lastModifiedBy>user</cp:lastModifiedBy>
  <dcterms:modified xsi:type="dcterms:W3CDTF">2022-10-19T14:26:30Z</dcterms:modified>
  <cp:revision>269</cp:revision>
  <dc:subject/>
  <dc:title>«Интеграция информационного   и образовательного пространства  в системе обучения школьников города Рудного»</dc:title>
</cp:coreProperties>
</file>